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D9A-CD2A-440D-8739-3E9BB3E1A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BE1-B26F-4BB7-B000-BEDC4A00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6C3CC-F6C4-49B5-8AAD-B38C999FF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0D452-8B55-430F-8785-7ED7C886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06BF3-E31A-4DFB-A522-6607557C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6DA372-9F99-46D2-9E61-C2C89E39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01D13-1258-4E79-84D1-FB6FE3CB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8B129-5A11-4789-A81E-71241C3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8EC38-D0A4-4D7D-AC4B-C92EFF83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7148B-B7DE-425C-870A-00F46094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738A1-34DE-4B99-B802-938A142F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E12A5-B1FA-4DE6-9E80-47699C56B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228-DF5C-4F8E-897A-B3E21DAF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373E8-A8BF-4DDE-8C1E-08B81BD8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6861F-51EB-400F-91A6-0D450F36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9F547-A2A7-48F0-BB86-0874983D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B6EEC-8F7B-40B3-BFD5-CDC5D5B2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CBB052-D36E-4861-BFAE-E6AF0E7A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BA78C9-1E52-4296-A877-4F830413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87671-401F-4B4B-812A-2F84B023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D169A-3796-4E81-9471-07A716F2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87017-6947-4005-9316-DD3824DE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06FB7-908B-4F23-91C7-171DDD6D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36C0-7348-4E15-BCD8-0864033F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A4F84-B0A7-4B78-9ECB-C363EDE3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ED187-ED12-4836-B4F4-54251F86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620A84-0EB5-457B-8475-178182075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D4DF2-E0B4-4ABE-B283-E804E432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663AA-06CA-4874-A39E-02CB5410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59B77-7E13-4251-985B-3BFC4BD4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7D5309-9BE3-4630-A18D-8A5892AB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2F68D-0CBB-4543-96FA-C59E5718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11853-64DC-4634-99C7-3333A656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63968-3955-4B27-8A05-9B28BB6F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5768-BC1E-49B8-8F78-2234B6C5D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250BA8-4D81-4876-BABB-8255E8B59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B4481-1136-45C6-A7A4-BC5F47FF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234B0-BB3E-47F4-BF03-8EB780790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8579E-2141-4421-8DBD-90F9F2EB0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41BC9-2AEE-4015-B261-5FB21808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E4691-12C9-49D0-8F38-936BA0D0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1CE655-4A36-44E8-B0E4-93B02B49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44932-83FF-42F8-80A7-C83A4875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8E6F42-084A-45E2-A156-0EE277DC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4825E-0E6D-4979-A800-87E5D8B8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4788-4A12-4296-9078-F9678DF7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58E04-6631-4F75-812F-614172B0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AE698-9703-4E44-B585-7F7AB366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E7A195-A318-43E8-A3F9-945B6C69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2DAE3-CFDD-4A12-B917-71827D680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F40FA6-C345-4942-927B-8D3F0301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9E1FE-24B6-4CF6-A8D7-59264864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FFD134-852D-4B4C-89D7-51E94E2F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9301B-31B5-4FFC-8CFD-476CEE08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85524-DE51-420A-B30C-FBE1D818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F240E-AEA8-45BC-96D9-4C113704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33012-FACE-4BA0-AD5A-48552DEB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88989-8DFF-4CA1-B1B2-E3C83F0A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D57FB-92C3-40BB-B515-3A4E68FA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748C8-E7AE-41BF-99A5-56FC9B35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6228CD-AE21-418B-B37D-CA5AACD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F6D2DC-2A6E-4C97-ABE4-E16D1772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3694B-CF8E-4CDA-9946-CB9EB5C5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106B5-97A4-42FE-94D2-512B8397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2F459-EACC-44F9-8E0A-85051AC39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259AFF-CAFC-42A0-8655-9D2BF021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E4DAE5-0334-40DE-80CA-6F38A3A1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BD849-0024-4B29-A154-96AB3365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4F4FB1-428E-4112-A7B3-F4A5660C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D40051-994D-4642-99C4-FA6FCD03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29BCD-6E86-41C4-A2C7-B8284E34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3999DC-5657-40A9-918C-E21A6EE5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427AEE-EAD4-451D-8A81-01DA3A02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DED75-0AA0-4884-BDB9-275F4F87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8E39EA-271C-4B98-B546-55C3F47E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772EF-0EFB-4380-BA83-972787B47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2667FC-AA21-4B70-ABFA-880753FF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41DAC0-D8C0-46A5-BFEB-0193B20E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95B0-85A6-496D-9146-05EDA5E5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179959-8631-4F35-84DA-0B7DCD7F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38E502-74FC-4FF4-8B77-C7DF690D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1F64C-3C0D-47C7-A901-FC302EEE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40777B-D856-486C-BD1C-53F5FF7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14774-41EB-40FD-9A6F-BFB3519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FEE16-7671-412A-A93E-993146C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8CBCA4-0F0C-4CA9-9CDE-1D43B3B0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4E5FA6-F55E-4DB0-9A24-A3A67D35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C853C8-135E-499B-9F74-0ED9D633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8E636F-70AB-40E8-881D-E11B10A1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5CE55-942E-4526-9C4E-BD3977AE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EA7F2D-10D6-4CE2-80C6-D92376E5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F98C1-FECC-4CD3-AADF-B315A5C3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ACB056-F503-4D43-B979-36B9364D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A176B2-7C86-438B-8034-59194335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8ECF63-8CA9-42D3-B361-11F2C3BE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6B0C1-561E-4324-A7AA-BB5081F18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039EE5-174A-4EFE-A55B-F6E552D2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BC7B1F-FCD0-4259-9AF3-72BA0D5D4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57D229-C2F1-48EF-8E47-D5F58388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4EAE0-322D-41AF-92C7-D69DD213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E4F71-A1E6-4C04-9365-BFAFBBD5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50FF8-8364-4027-9C38-679953FC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057688-EBB1-49EA-8AD2-A5D65154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DD2B1-8224-4286-AA38-D0C1D452E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76F66-AC1B-4BD7-A09B-F5F34A15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C63C6-1F1F-407F-84DD-FC6864CA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02568-CBBD-453E-BFC6-FBD3FB2D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1423A-3F23-4ACF-A500-EE7D6EA25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2D5E5-804C-437F-9CAF-E9E5DEBE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C0265-69C7-4E65-B86F-2F21C0C6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A94A7C-7258-4EC8-88A9-2F2BF5BA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239-F9A9-48B8-83F9-14006EE2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E6CB-E493-4AF7-8C47-42A45540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E0972B-0D62-45FB-82A3-7F248EF4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EE1FE5-3B9F-4BDA-BFAE-D48ABF17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173EB-2840-44E5-8E69-6228C43C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DE4EBD-7B84-4589-806D-D465EE195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A379B1-4732-4613-8265-65778D2D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89DFBA-44BB-424B-BF8B-668553430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B19109-89FE-4F8A-A43C-BEDE7685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BE5E02-784B-49CA-AD6B-BDD8BACD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B31563-0A13-4C1B-846D-99D24AD8F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92556A-15D9-49CB-8ECE-D4CFF2E71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11F3-4401-49C8-BC0B-379BD4FA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BB38B9-FE02-4EAA-BE2B-EC9D89B9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876889-C423-4D0B-BB16-1D450653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1783E-D56B-4E58-98F5-921E0ECF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410E93-5A25-43C6-B82F-8C34E391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9DBE25-6B06-4FBB-99A3-1791DEBE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5D84D-2070-4E9E-81EA-CB66294F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A4F39F-55B6-4AE2-ADBF-80E2A095D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FD016-EF40-4DAD-845A-2071F3E2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52B25-9849-45CB-8823-6DA45D62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0F9627-0854-40A1-AF0D-4525B74F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05ED4-5DA1-461D-BD1C-9AF1E283F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C9E911-D90D-4E71-8F66-E69843AF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354C40-DC62-4B62-A966-EEDE3ECB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ECAAD3-248D-4C58-BA2D-44127A7E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3E8A7-AF09-49CC-B447-4677C24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66522-B192-4800-B725-60A91EB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17C759-D33F-47CE-B203-6934E6DF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76BD69-2009-40D0-B7E7-3658EA43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E3DC8A-F5A5-40E3-A18D-2C932538F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665B67-D449-4A60-8133-2205661D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BC37DB-C854-4852-98FA-BAA76BE84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8AC7-9A84-4043-A909-1CECE37C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BD970D-EE5D-42AD-999C-9C0AE46D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255B72-362C-4365-9D5A-A04F81116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67E3E6-8544-4E6C-8796-7D151621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7A1601-C8F4-4042-BA50-3D177D19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8E6582-9CF7-47F6-A7FA-289743B4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E9D94-3C38-44A4-9F2B-FD25BB1C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4A4E95-5B6F-4776-A89C-FB4CBCFD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5CA9EA-A801-49E2-A76D-9C64A08E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530299-3AA1-47EE-AB91-9E185A86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195BCB-E4E3-4789-AFD4-94265FC3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47D2-ECAE-478F-BF5F-4E866409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4C4F5E-0D8D-4B72-8A66-9EA0DD39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C9F996-0875-4108-94AE-07E8942F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F1C1B1-DCEB-48EC-A2AB-C7C0208B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332027-18AF-4663-8CC7-9467A2666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80A4B1-BFE2-4AFD-80A6-6397FA22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772DD2-7F5E-473B-9004-9938A1CF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64E9B-81D3-4A2A-B5F2-BB41DA58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EFFED1-62A9-44F5-B489-9C00F040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7E0742-2484-4A99-86A3-620ABDB8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936312-25BC-4495-B26C-967EE0CC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51BE-E9E7-412A-AFA9-0A216C9F4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901680-242E-4928-8651-687A042D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086DD6-D2A6-4B51-BE76-14DC0FE2D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394FE5-14EE-4CDE-ACC8-5657E141F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43ED1A-AA4E-426E-9255-0574C0AF3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F9E425-6E58-4616-8C07-15CCA447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43EF5-80A3-48FA-A000-C5607A85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6516D6-CA62-4D30-99C3-43F008E3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7D3D9A-C307-4457-8803-E0B19E7D7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DE54F9-486C-4124-A24F-DDDB27C5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312E31-8C9D-4A5D-B32E-9AC7B271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8F898-70DE-49FD-A534-9180AF0BD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942A09-F050-4D18-9A0A-EACED20E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AA88DF-ED65-481F-A524-800716AB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B1BB08-333C-4B37-87F3-B22DC5D0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01FBD9-4A18-45BA-ACC9-BB6B9D03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D62C60-EE55-424F-AF04-1130B919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764770-3638-4EAA-8BE8-D51B75F7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5AA64D-4670-404E-B181-7901A42B3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1F944D-8AD6-4D64-91AD-18BB8548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40E1C6-28E8-426D-AFE5-CBB88BFC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F18964-966D-431D-B7DC-76153D5C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C1F54-4F5B-47CD-A929-30AD26CD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3A0C14-0373-4004-8B83-1164C4D0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0E83E8-2BCA-4ED2-AB93-D2A96435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3DCBC9-5B25-4CEC-943E-0113BF4F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183F7F-8371-4F8B-A17D-9DF3489E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6AB950-1D1F-4EF9-8ECB-C82F68A7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4EB3E1-0917-4D22-92C4-0C691007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375642-8D00-42E3-8C61-FC38E86F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DB9A-6C02-4672-9150-050441E8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80197-D039-4E81-8ED7-254FA816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06FD-8099-4F3A-9467-E8B51D43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B48F-59F9-42F2-BD63-F127F0A5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BEFBD-8900-4344-A4FF-D9076B75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B5B30-FEB4-4498-AF7A-0B15E332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3FEF5-2E28-4AFE-A00E-B047344E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898EF-E381-4920-ADD6-E81F5D8A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6DED2-6FA2-4AF8-BBCF-0E6AE02A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F5E2B-4B5F-4733-B25A-CDC13243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50680-6EA7-424C-9641-8F1B6F0D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856B-689F-4F84-AE85-03AD5EAA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760AD-217C-49E9-A0F3-21BF6FC3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88F-A59B-4665-A410-3D729E73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F6BE-E786-4F08-A834-36BB59D8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47EEC-9E11-4086-BEA9-A3B3CEC6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E066-48AB-486F-9581-F005141E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B681-E4DD-40F5-B9BE-BCCFEA03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72BD-47BF-48A8-8ABF-E948D9F7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8897B-50DF-4577-BBD0-D728DF0F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ABBA1-FC06-4C4F-AA67-DCD3EA09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309E-4C13-410E-AA5B-A714E3AA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8B43-24CF-44A1-B42F-F3A987088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D2E5C-D3A6-43EE-AF85-51E596028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B184-D50F-48CD-A531-819A4A9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F2B4C-77A4-45A2-9862-6079A4B3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02C97-5394-47B1-8031-A809375F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DC6B9-9F83-4C8C-924B-A85A8F46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088C-34D2-41B1-A5AB-B4852801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754D5-9D79-42B6-93B8-D9370E6C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44E31-95E1-4F7B-8DF0-FB988622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C57C1-E161-4320-B315-D4DF40D3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C5861-84E3-4541-8CF6-F7C8243A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11805-A878-426F-80A3-554B13FF8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BBE7A-135B-42C2-9D4A-A6968893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CAD-C9F8-429D-BBE0-538E968D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F5EDE-53CE-4908-90F8-9DC745BC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9DCC5-08D7-485E-AA08-B8D828B96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024B-0847-466F-8A59-A7F5B433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2BC0-88D3-465B-826A-CD570E45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7AF88-F16E-4689-BECF-099D18E34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30E7BD-0C1F-4E28-88EA-1507929F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48328-C7D0-4AD4-A621-3FC999BB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6A941-EDB6-449A-BE2B-2088D33E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ED4F3-BB95-46D9-B0C2-4E7F387FE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0B52B-6D71-4902-8F9F-CDF334E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792-08D6-4B42-9A26-575C4557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A17DC-4F47-4F7B-877F-20C77CCC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F8366-65F4-49BC-9299-123DDF784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719D5-7AA5-498E-BBA1-8936221E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31064-60A1-45C5-9BBB-373765FF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F707B-3138-4C6D-9227-1834E86C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CB5059-1032-4969-9791-B2A39A77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824F1-F60D-44D4-A5AD-102D58A6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E5481-35D2-4F4A-B2D0-0DA112BC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A80846-B790-425B-9A91-08A13DEB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EC342-A599-4EC5-BCFF-E3C273B7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BFAE-AE7D-4F87-A81E-7DED14D2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0B56A-EBA6-4173-8AE2-3052B941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9C0DA-F8DD-4E8C-8E38-D3604184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D5259-A1A3-4861-B488-8DDD90E3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1FAD2-27DE-447F-A06A-3DAC3D5D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FFDBD-A54C-4DE8-B2E9-E63902AA3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DF415-AEE7-4B9A-8D3C-99A8EBDE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1ACC1-552F-4C92-A949-6C096859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D7EA6-744C-483E-A7A1-4C9C3213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A15C7-BCDB-4879-90AA-8DABFE15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8507C-340C-46DA-8F86-7F94CD70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185-4AF7-4F5D-9949-FB6C5598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795A6-1B47-4C42-80B9-55D9D44A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379F4-72B0-4E39-A878-894E87F3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B359B-DB4F-4025-92C9-1427BE51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6C053-1A7C-4970-AE19-9B900D35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C55E0-91A1-41B1-900A-C4258D3E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89FE0-4E63-41AF-9B24-08509247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C7233-EF81-489E-B57C-2AD20F21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7DA7A-C099-43DC-BED4-DB5BEBE0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07717-C84F-44E5-AE4A-FAC58D75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3CED0-D299-41E6-B614-6FEC9614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C03F5-7502-44B7-93D2-EC3BF08D1BF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46FC-B3A7-44CE-94D1-5F89430939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6961-5EB3-4368-A979-513B2F41A5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79F6-1F62-410E-BB0B-B4481554E7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A98F-BA36-438B-B0CC-6D82AFB73B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36F6-9D85-4DD3-B206-8E47C36AC0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A2FF-1EF9-489F-A91B-8B2C295AD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8565-1E59-4E55-94D4-8F0A0F53CA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5A56-06E3-4C35-9391-DAD7E58B85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0D32-4A44-49AE-A26F-A18DEE6D6D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3EB2-99D4-4F85-9ABC-7778C5761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FD95-07C3-4BDF-B2E5-15CE792BB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E22F-8213-4D5A-B212-1748D2EA5A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2B24-736F-4405-99AB-763595E4C4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A5A6-C29A-4988-B627-A6E04F5522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8CFA-366B-4D0C-A8B3-E2829E2F42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B115-7154-4955-A544-809D5C3C36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4D9D-8E16-475F-ADD2-5D62C4F7E5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2DC3D-BBE9-403D-B0BC-7C6D39BC82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E030-4AFD-4783-8C5E-55D412D920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C2E7-284D-479E-8359-E2B369FFD9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A919-9652-4478-9C36-2D30A8AA50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59DF-5C22-4D8F-9F96-71CB58BF31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7CF6-BD5D-45B9-A4CF-51FA451043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FBC6-5FB9-4990-9D47-9CA957D80E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456F-2813-4ADB-8AC5-040A55B062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4481-8A1A-4702-A1F7-E74E1F9025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DCE0-2E93-43DD-8D80-8BB9BB1D3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4608-9676-4C95-A3BC-D6BE089A28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B222-6873-4B37-A3F6-FE5D26403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6F98-D913-4CA7-90A5-243E9AD9BD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8B7B-4AF4-49CD-8C81-C754DE1F15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D921-D62A-4193-AE8B-C9127F3E21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C9974-055A-41F8-ACF6-99D275465B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AD71-0676-4042-9AD6-B059534DF2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A390-402D-4ED1-B5B0-566AD39AA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5C8-BA97-4E40-B17B-58EF67FDC3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71F6-3832-4E3A-9D9B-E0AB94E57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01AF-1345-44A7-8159-C192776AD2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64B4-1D25-490E-AEE7-37D111D4A3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A400-FE83-4157-8546-6FFF044D80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C6BB-603E-4D97-A936-A83209FD56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52360" y="2981160"/>
            <a:ext cx="87613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20520" y="1639800"/>
            <a:ext cx="9102960" cy="181620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2" descr=""/>
          <p:cNvPicPr/>
          <p:nvPr/>
        </p:nvPicPr>
        <p:blipFill>
          <a:blip r:embed="rId2"/>
          <a:stretch/>
        </p:blipFill>
        <p:spPr>
          <a:xfrm>
            <a:off x="1400040" y="4000680"/>
            <a:ext cx="6343920" cy="24001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3102120" y="21337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284328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5"/>
          <a:stretch/>
        </p:blipFill>
        <p:spPr>
          <a:xfrm>
            <a:off x="5796000" y="213372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6"/>
          <a:stretch/>
        </p:blipFill>
        <p:spPr>
          <a:xfrm>
            <a:off x="6156360" y="263700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7"/>
          <a:stretch/>
        </p:blipFill>
        <p:spPr>
          <a:xfrm>
            <a:off x="8532720" y="2133720"/>
            <a:ext cx="58284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8"/>
          <a:stretch/>
        </p:blipFill>
        <p:spPr>
          <a:xfrm>
            <a:off x="8547120" y="2637000"/>
            <a:ext cx="58248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9"/>
          <a:stretch/>
        </p:blipFill>
        <p:spPr>
          <a:xfrm>
            <a:off x="3189240" y="4653000"/>
            <a:ext cx="58284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0"/>
          <a:stretch/>
        </p:blipFill>
        <p:spPr>
          <a:xfrm>
            <a:off x="3189240" y="5300640"/>
            <a:ext cx="582840" cy="4478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11"/>
          <a:stretch/>
        </p:blipFill>
        <p:spPr>
          <a:xfrm>
            <a:off x="6084720" y="4653000"/>
            <a:ext cx="582840" cy="447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12"/>
          <a:stretch/>
        </p:blipFill>
        <p:spPr>
          <a:xfrm>
            <a:off x="6084720" y="5243400"/>
            <a:ext cx="9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47760" y="1281240"/>
            <a:ext cx="8448480" cy="42955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187280" y="42210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5435640" y="4826160"/>
            <a:ext cx="3168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图片 1" descr=""/>
          <p:cNvPicPr/>
          <p:nvPr/>
        </p:nvPicPr>
        <p:blipFill>
          <a:blip r:embed="rId1"/>
          <a:stretch/>
        </p:blipFill>
        <p:spPr>
          <a:xfrm>
            <a:off x="504720" y="1095480"/>
            <a:ext cx="8134560" cy="46670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244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244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4"/>
          <a:stretch/>
        </p:blipFill>
        <p:spPr>
          <a:xfrm>
            <a:off x="5364000" y="1916280"/>
            <a:ext cx="30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5"/>
          <a:stretch/>
        </p:blipFill>
        <p:spPr>
          <a:xfrm>
            <a:off x="5508720" y="249228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6"/>
          <a:stretch/>
        </p:blipFill>
        <p:spPr>
          <a:xfrm>
            <a:off x="755640" y="453708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7"/>
          <a:stretch/>
        </p:blipFill>
        <p:spPr>
          <a:xfrm>
            <a:off x="900000" y="5113440"/>
            <a:ext cx="309564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8"/>
          <a:stretch/>
        </p:blipFill>
        <p:spPr>
          <a:xfrm>
            <a:off x="5364000" y="4537080"/>
            <a:ext cx="309564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9"/>
          <a:stretch/>
        </p:blipFill>
        <p:spPr>
          <a:xfrm>
            <a:off x="5508720" y="5113440"/>
            <a:ext cx="309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90440" y="914400"/>
            <a:ext cx="8763120" cy="50292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1042920" y="324000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1042920" y="4581360"/>
            <a:ext cx="705816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1042920" y="5186520"/>
            <a:ext cx="70581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90440" y="1343160"/>
            <a:ext cx="8763120" cy="41716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971640" y="285264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971640" y="350028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971640" y="4149720"/>
            <a:ext cx="518472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900000" y="4869000"/>
            <a:ext cx="5184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181080" y="990720"/>
            <a:ext cx="8781840" cy="48765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971640" y="364500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971640" y="4221000"/>
            <a:ext cx="792144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971640" y="4869000"/>
            <a:ext cx="7921440" cy="447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900000" y="5386320"/>
            <a:ext cx="7921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295200" y="57240"/>
            <a:ext cx="8553600" cy="67435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971640" y="450864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042920" y="5084640"/>
            <a:ext cx="57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042920" y="573408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900000" y="6280200"/>
            <a:ext cx="5761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366840" y="800280"/>
            <a:ext cx="8410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766800" y="1609560"/>
            <a:ext cx="7610400" cy="36388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755640" y="168588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77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77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5"/>
          <a:stretch/>
        </p:blipFill>
        <p:spPr>
          <a:xfrm>
            <a:off x="611280" y="3500280"/>
            <a:ext cx="77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6"/>
          <a:stretch/>
        </p:blipFill>
        <p:spPr>
          <a:xfrm>
            <a:off x="684360" y="4064040"/>
            <a:ext cx="77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7:40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